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A07-1BE2-41DF-B772-36457A47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38B-300F-4386-9D2D-C0F5D371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0838C-8C8A-431E-80BC-0166D029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6C92E-5D2D-4C56-B186-FF5FD424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1B691-19B5-42ED-AA41-6A111E06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49618-ABCB-454D-928B-8B7E9424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F4C8A-F1D1-4464-931C-AB3D921C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1CFC1-71B3-40A2-BCD1-3D7BC88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A8A06-A919-4F99-93FF-39E87C20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BA718-DD84-4CEB-8C4E-47D5BB3B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48A1D-9811-464C-9348-8468BAD9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1D0DA-792A-4E2D-BFEF-FE814BCF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FE9-8D55-459F-8F4A-1FB8B3DD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90841-6D6A-43A5-B617-D6C622FD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ED3AA-F8D3-4727-9FBB-46A7C891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7DA19-80B2-4BB1-A8D7-67209F32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60AD5-D784-4B04-AC54-D470364F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7AC25-F927-4168-9E6B-75C2A83C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AF53E-09D9-4DCF-9A02-BF39BFD3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4E17C-D109-4DE8-90ED-D3B25C8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19F09-3920-4207-AC3C-731BAB8B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D16BD-D69D-4CC0-B1F7-0DAEB1F7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AB0B6-0CFD-40F7-9320-6604BA1D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BA1-97D9-4B99-9F26-256598B0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8CCB6-188A-46C0-832A-60D2780D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54D0AB-3CEF-4936-A265-690F83D0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CBBFC1-DBD9-4C3E-9CF8-D4C16BE1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21AE06-6124-4358-8666-8F99EE91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B412F5-07A3-4ED9-B4AC-8FC5B37A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1B463D-F29F-4965-BF57-F5855993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C753CF-09C7-43D9-9B41-F7840FA1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165350-36CF-4AAC-ADF9-AF705EF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9D8CEB-F80B-4CB7-8FA8-A6E3DC2D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27A633-8E2E-4400-B97A-4865996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D1B0-8C55-4C50-844A-0CF94C2C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021616-2537-4D51-860C-A6F0D5E7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4DC4B3-2715-4B3D-A610-E1A70823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A31516-34C0-469D-9FEF-8A39B4E0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A6111-37C1-43AC-8924-0D7671F9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7106C-D6AC-401A-9C6D-466C5D61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784B8-EF3F-4869-AB39-BF47A6FB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E2E56-DE5D-41D8-B264-C80B6D51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56E4E-30A3-4DEC-BB22-9FD4520D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8FC9F-260F-48FF-87D9-8FC33007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D6316-DBC7-4766-9E80-F6316CE7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D673-D6EA-4A93-AC79-1866E433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7FF2E-012C-4F70-9316-62276186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8453E-0E33-4CD4-B578-13D134F8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F5BF5-FCA6-450E-BFB5-462354DB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8C562-A53C-4ADF-826F-03F8E90C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8B424-E0B0-4236-9E69-8A2F15AB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092A31-9EA0-4006-84F5-CE57AA8D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4CB0C6-B533-462E-AADC-96C065D5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CD12DC-D207-42EE-817A-D1853803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D3C535-2945-4897-8612-7C588D14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7FB0E2-5470-45B9-A43E-C194C576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C625-0531-4DCC-BF11-2B09CF72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B94A92-C985-414F-AAE0-69CA8192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CDD74D-A129-4C34-9C04-AFD6BD02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02ABB5-471A-4E6B-8598-9A5AFEF9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A324E4-731F-4C40-A00A-E1050FB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3235FB-47F7-4024-B9DA-20BBBDDE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A8E4CA-402E-498D-AFFB-EF2CE0E7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783915-E976-433C-B0F1-4BEB8009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C80094-0E5D-427F-99E4-3B2EE055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9E92DC-A47A-49F8-BAAC-D20859CC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01C4CC-68EF-4EB4-8F8A-B7E112F5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21C8-6D84-491E-B48A-1AB5F793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131E16-DBFB-4AD2-849B-89BD2BD8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9AF6A4-A3E8-4746-9CF3-995EF051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AF2E4A-E0C2-4E6B-9F6D-08EA7C18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2A9D43-18DD-4159-892A-1251E357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329058-0811-4219-85DC-CE5B5ECD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9F69B5-85B4-456C-A667-C267946D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F8AF6C-A754-416A-9C55-C20451EB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C42109-11BF-4A1C-B075-5BE30CE0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6E4276-4C89-42D2-8FE8-91B9C226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5C7DDB-8912-4640-8691-F1BACFC4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5EB1-77A7-4589-B28D-7DE1B864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C09CF0-D180-493A-9860-833523F3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F2FFC2-17B4-404C-B70F-5B748E4F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D45821-6F6E-4ABC-859F-CDAA604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AA900D-41EE-495A-9A7D-F19758A9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6B8968-858C-42A5-B4B8-D2C5895A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090C29-8FCC-4748-A572-30D2483B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38735F-0B90-4CC0-A242-A5DE858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D4DC20-1E1D-419B-BD82-01A8536B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A891C0-3A77-4AE5-B832-30DCAC08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E1D5D2-087F-4935-BCED-D1AEAEDD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AF8E-D4E1-46EA-A7C0-589A401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D50DD6-D16D-4F91-8E0B-0893EB8D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2EDF86-9983-4D1A-8207-849EA369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D7C140-70A9-4E3E-BB79-6F0482A8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CCC2DE-3892-4E69-9D58-8F617F95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5C9CFA5-A1B9-4555-B537-453FD032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3A132D-CD93-4FE2-8A4C-6D4890ED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DBCB8E-C82F-4645-9380-78C71696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ABE0D5-3C76-43D1-AE64-C70B94EC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DDDE7E-DD85-42C2-BCB6-F3C818C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45F005-A141-4CC8-A753-9CE143A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0418-35FA-485B-9CCA-7505130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950E29-65D2-4378-8D97-F73D91A7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E078E8-5CEE-45BB-87C5-475C1503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D42FCEA-C975-40BC-AB01-B30D75FC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4B4AEC-B6B7-4298-816D-E8158427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2B816FC-065D-45E4-B6A5-400DF2D7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01B6AC-D174-44D0-9601-929BCD6D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6D4305F-56C7-48F9-B282-55A31E81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3A666FD-8CAC-42FA-8121-31810921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D9438C4-EC3B-4D5D-ADDA-C5383918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B7BDBFD-B546-4294-A9DF-D7470B8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492-5D1F-4BCF-B5FE-9FE66183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0F52-264D-44C5-BEDB-C3E0D75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8BF477-6D19-4586-B8DE-ACE61DC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C77E36-53E6-4484-BD67-B0788D2E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94E476B-9E69-4DE9-ADC9-4A30D558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9D8D539-7C6B-4D65-8128-616436A1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328510-F2BA-44F4-9C92-1D019D2F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23DB03-8BF5-427E-858E-8EA02DD3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CAD64E-1BA3-42EB-8412-A1A4D39A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BA433F-68F2-4A21-9BA8-406DEA69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5CE183-DBC4-4E63-A0D6-2D3D0DAD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2E6DB8-4798-4428-94F1-9293F61C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3F32-1A68-420B-A3CF-DEA1EE2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EB2EB5-C39D-4468-8E02-7D15995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87A4F0-5B32-47D5-B068-782178F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D00390-6492-48A4-9C7A-974B98B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A18EFC-9C8C-4A44-B377-CB95E35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4F3AEE-4DB4-4569-8BB2-B5A199DE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1D9600-FBBF-40A9-AB76-9BFB0289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B76E86-831A-4957-B49C-9E7434BC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19D9398-9005-4120-8219-BF096B15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2761A8-F6F4-4DC0-B148-96511591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D727B0-7484-4400-B3E6-83854020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83A7-B150-47F2-A674-E6024CAD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AB87F3-C6D5-4395-BE38-686D1B13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5DCE51-3919-426A-9681-F2A7836B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CD9283-142A-443D-BD4B-3D258EB2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EC4CB9-DF94-480B-BA56-421939F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82E0FF-1F53-47C9-AC0D-1A8DB0EA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BC6F3E-710C-45E1-ABDD-08D2ECAF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1C0402-4EB1-4FAB-BD7F-0D97AFC6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248F38-8865-43C4-A943-15D0C39A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B0A7D02-7330-4C35-BD02-7DC41896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A0EE61-830A-4E2B-A6EC-B349B4CC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E66C-B356-48E0-8231-DC5AC0A1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6D0DAC-78DE-48F1-8B67-DDBC4661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CFEB88-4882-465D-B1EB-7DA4F76C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75D1C40-455A-4708-ADA2-FDEF19A8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E5B1CF-7231-48B6-8AFE-C1F12118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6F7AEEA-6427-4120-8D1B-094D9A58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FC5C24-4E68-437D-977C-99456F4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A3EC20-ECBB-493D-BEB5-B8CD6764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15B181-C7FC-4A8F-A941-03DEAD2F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121498-E51C-4924-B0A9-DDDBFB45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CB75FF-D616-4E55-9106-81B57C97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8D0D-2D1A-455D-A964-2A800201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73CD72-F91B-4AE3-B963-83715C58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2536-21FF-4E13-805F-CB22A9C5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18E9-39AB-4992-A60F-6A6BA593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AADD6-0B0B-41C4-A0FE-E669EE7E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5BF3-15B3-4926-8702-499486B2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24E3-E6A0-4F3F-8D27-886E4E62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480-4A14-45BA-BE9E-9E46EAD7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9EE9-6599-4A51-A9B9-D90070A0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4EA0-100C-45DE-B322-5B299631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F01A-697D-4BF0-84DE-9FF3DAB6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8231-F19B-47EA-9057-A692EF2C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1556D-9CCA-4808-9CB3-98B22AD0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82F0-B7A2-4063-BD81-556A4FEF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561F-FE0F-4903-AB5C-F436C935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10A4-6E21-4D66-9666-1131002A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7838-74AE-4852-88AA-E0A7E821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4D2C-C829-4C9E-B845-A9784039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4DA-2DCC-4D40-BC20-EF2BBC62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352C0-AC17-4EB6-B4F3-1C15FEB9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F494-4DD0-4111-8F41-5AC2A5B5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0FB7-87F9-476C-9653-F51BE8C5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3420-F8BE-4062-BCDB-0022E20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6768B-15C5-4882-A6F4-4E81482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815EC-10CB-4947-82A1-2D78A8C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6563-1793-48B5-80C2-04F187CF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1208-4E8A-4F76-8599-80EFA349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D3C2-5AE3-4367-9602-2042CB9F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D1221-3BF8-48EF-A3A0-ABFB8E54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4C9-8111-4B8A-8B01-ADC127EB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F718-6E24-47CA-9E01-A61C4BD3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9450-0913-4724-8E4B-13F7A31E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99F9-B405-44DA-A273-6D60FD6E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C3F78-B61D-45DA-8E9A-3FF1A495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D9350-FCEE-4AA9-9F1B-10F2A9A8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8D5D-E73F-4129-990E-0DF9E14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6ACF-4CF2-4CD3-87A0-095CC89B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0E6A7-2B90-4EBF-AF82-5892EA4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80AFE-ABDC-4DF1-BD4C-E7227547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10C2E-980C-4DC3-945E-D57A2A06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4D4-0384-4C1E-9C0A-D48DF66E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25AE-86CF-4E13-82D5-A1B2EEF4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4E80C-45FD-4E10-A5E7-C21B09A3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B9C0-4472-4C6A-BAD5-756E59BC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D1FBC-DDC4-485C-A1F0-52CBF1D1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1EB3-200B-4885-B678-544EB418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2639-D200-48CF-B7F4-84F2C942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808C7-A490-44E7-B5A8-3D772A81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6A8FC-9C82-43F3-A264-8F360117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AE20-76A3-4012-846F-3E79130F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D67BB-8E20-4D1F-B0F3-AC0A9F4D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4F1-5397-4EB0-B980-2DE27FC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A6D9-4887-4710-969F-FB4BB734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9F314-9CFE-4C3B-9043-ECAB5415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36B0-E191-4F26-8E5A-4B5239D3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C372FB-0E35-44B6-AE5A-13AAB8F2ED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921B96-B682-4D14-A271-800B519037D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952617-4834-4E51-9236-9ACA06AD80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06EC03-D3AB-47F8-963B-4BC54CF82D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112A0C-3382-4EF7-8D4A-02FED000915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761357-8746-4C16-9474-C1781D447C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0D4E19-BBD1-478F-AA40-D39DE44E9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287-7949-408F-9374-177B1BB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C54E3A-643D-4CE8-A467-9AA818C6924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6E9C29-82FA-4DF6-8424-EDC0D39D13A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60312A-A3EE-47DB-A79B-358C87B2C02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C5718E-D7A2-417A-965A-921FF8C3D9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73454D-071A-4325-AFB3-3903340764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CE2EDE-6E96-4047-A3B1-7A8011FC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393D0C-0785-4A6B-8101-232D94E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30CB1C-45BD-42A8-8B0E-938A8D4B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B2BA51-6495-42A0-A811-87DE775F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2DAC4A-DBF9-4713-89E4-3F5D85A6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A23-09C3-4BE3-9995-128051D7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AE95AD-463D-4ECA-BE6B-9F4B81B2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E5B11A-0BFA-4FC0-88CF-57174DB9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3BF3DC-C504-4366-BBA7-622029C8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8A5358-77EE-4FFD-846B-61D53BB1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549A6D-2D05-4D77-9DAE-30B5543D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F536D-FCC0-4F76-BBFF-D6D91ECD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79E183-7CC7-4208-A1DF-60AAF301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AA1AF-628A-478C-9E28-A8021CDF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0CE3D-3BC2-48FE-B24C-053EEE7A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07614-3FAF-4F7D-A394-8E5457AB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7268-397A-46E7-BCFC-0EBE7FB1E64B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8830-F642-424D-BB95-46C8A0455CC1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8269-D29E-4076-90A9-A4A1CF8276D1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AEB0-60C6-424C-8685-F24ADF2752DB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EA88-BC78-4483-9200-A3FD30D52E44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3026-4E34-4CE3-B187-E6DD639F34F8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A352-56CE-4980-90DA-DD643F74732E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ACE3-4BB5-48C5-8D8F-006753E35A4E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9935-D3F8-4D04-8DCC-0698155952AF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496C-1C4E-4BFB-9D5B-A643CB4CB033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7FA3-3B29-47CA-9E27-64FAFAE3712E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FF9-0FF2-42A1-84EE-BEFDDFFA446F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E6B1-7766-4CAD-80D1-82C156168B2A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2F1B-1A6A-4331-942C-2F8D288502DB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FC8-069C-4DE5-ADF4-E6B42E6F13E1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62D8-464E-47AD-994C-075E7B565055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6008-3CED-424D-9F53-1398C1864E37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4992-A65A-4872-955D-52B030465076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81EA-EE3B-44AC-B7E1-740DCDDC23E9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0DCE-3CEA-4781-AB51-068DCB815857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5EC0-E302-4854-A6EE-2F2DB762FEFE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5127-9E51-4C67-93AB-DF5D4DBF1762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02A1-E469-45B1-9E01-5D7DCBA03EE9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F881-62E0-43AB-B9B7-9ECE93B72FAC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F6AF-E9CF-419E-B139-5C501008AAD9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4495-6C68-439F-BE36-548DCE1FD373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0329-156E-4C9A-B662-9163771ADD7F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97E2-92B5-4D65-A874-183179209E1F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7358-CD8F-4D98-A17B-1EE6FC22589C}" type="datetime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E46F-F899-4A37-B558-7ADB4E0F62BB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E75B-F1A7-4440-9908-3D831402755D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6BDD-32FD-4C1C-A4A3-42B04EF50669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C3EB-29D3-453D-996F-5D4DF9007D83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7ACA-9E69-4974-8448-007505544C28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C869-E289-41BF-A255-2A06683F4EF8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13D-3A71-4A3A-A01D-D0062377EFA0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D86B-3672-4AB5-A0CF-9C5CD7C03DC1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6146-532D-427B-BDD3-AE2135CA8FDF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2A24-6677-4057-8A4E-099E57AC7262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Accounting for a Corporation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0" name="TextBox 4"/>
          <p:cNvSpPr/>
          <p:nvPr/>
        </p:nvSpPr>
        <p:spPr>
          <a:xfrm>
            <a:off x="457200" y="1828800"/>
            <a:ext cx="84582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.) Different Accounts are used to record owner’s equit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2.) Different procedures are used to distribute income to own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3.) Must calculate and pay federal income tax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 Proprietorship and Partnership net income is part of the owner’s personal inco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entury Gothic"/>
              </a:rPr>
              <a:t>STOCKHOLDERS’ EQUITY ACCOUNTS USED BY A CORPORATION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42" name="Picture 4" descr="D:\C21 PowerPoint\Multi_Journal\art for blue\Ch25\Ch25-01a.jpg"/>
          <p:cNvPicPr/>
          <p:nvPr/>
        </p:nvPicPr>
        <p:blipFill>
          <a:blip r:embed="rId1"/>
          <a:srcRect l="41856" t="0" r="0" b="87212"/>
          <a:stretch/>
        </p:blipFill>
        <p:spPr>
          <a:xfrm>
            <a:off x="457200" y="2209680"/>
            <a:ext cx="8229600" cy="284328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1, page 6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Vocabulary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5" name="TextBox 2"/>
          <p:cNvSpPr/>
          <p:nvPr/>
        </p:nvSpPr>
        <p:spPr>
          <a:xfrm>
            <a:off x="457200" y="2057400"/>
            <a:ext cx="73152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tockholder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ivide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eclaring a Divide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508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CLARING A DIVIDEND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Text Box 4"/>
          <p:cNvSpPr/>
          <p:nvPr/>
        </p:nvSpPr>
        <p:spPr>
          <a:xfrm>
            <a:off x="457200" y="9144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5. Winning Edge’s board of directors declared a quarterly dividend of $1.00 per share; capital stock issued is 10,000 shares; total dividend, $10,000.00. Date of payment is January 15. Memorandum No. 18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457200" y="2230560"/>
            <a:ext cx="281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nd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7373880" y="222408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5697360" y="223056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2971800" y="2230560"/>
            <a:ext cx="234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holder’s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9"/>
          <p:cNvSpPr/>
          <p:nvPr/>
        </p:nvSpPr>
        <p:spPr>
          <a:xfrm>
            <a:off x="5195880" y="3701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152280" y="3701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1663200" y="50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Group 53"/>
          <p:cNvGrpSpPr/>
          <p:nvPr/>
        </p:nvGrpSpPr>
        <p:grpSpPr>
          <a:xfrm>
            <a:off x="-76320" y="3247560"/>
            <a:ext cx="9220320" cy="2314800"/>
            <a:chOff x="-76320" y="3247560"/>
            <a:chExt cx="9220320" cy="2314800"/>
          </a:xfrm>
        </p:grpSpPr>
        <p:grpSp>
          <p:nvGrpSpPr>
            <p:cNvPr id="856" name="Group 52"/>
            <p:cNvGrpSpPr/>
            <p:nvPr/>
          </p:nvGrpSpPr>
          <p:grpSpPr>
            <a:xfrm>
              <a:off x="3962520" y="3247560"/>
              <a:ext cx="5181480" cy="2314800"/>
              <a:chOff x="3962520" y="3247560"/>
              <a:chExt cx="5181480" cy="2314800"/>
            </a:xfrm>
          </p:grpSpPr>
          <p:sp>
            <p:nvSpPr>
              <p:cNvPr id="857" name="Text Box 21"/>
              <p:cNvSpPr/>
              <p:nvPr/>
            </p:nvSpPr>
            <p:spPr>
              <a:xfrm>
                <a:off x="3962520" y="3970080"/>
                <a:ext cx="51814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336760"/>
                    <a:tab algn="dec" pos="4008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4/15 Paid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     3/15 Decl.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336760"/>
                    <a:tab algn="dec" pos="4008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7/15 Paid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     6/15 Decl.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336760"/>
                    <a:tab algn="dec" pos="4008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/15 Paid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     9/15 Decl.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Group 45"/>
              <p:cNvGrpSpPr/>
              <p:nvPr/>
            </p:nvGrpSpPr>
            <p:grpSpPr>
              <a:xfrm>
                <a:off x="4510080" y="3247560"/>
                <a:ext cx="4481640" cy="2314800"/>
                <a:chOff x="4510080" y="3247560"/>
                <a:chExt cx="4481640" cy="2314800"/>
              </a:xfrm>
            </p:grpSpPr>
            <p:sp>
              <p:nvSpPr>
                <p:cNvPr id="859" name="Text Box 23"/>
                <p:cNvSpPr/>
                <p:nvPr/>
              </p:nvSpPr>
              <p:spPr>
                <a:xfrm>
                  <a:off x="5695560" y="3247560"/>
                  <a:ext cx="206748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vidends Pay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0" name="Group 44"/>
                <p:cNvGrpSpPr/>
                <p:nvPr/>
              </p:nvGrpSpPr>
              <p:grpSpPr>
                <a:xfrm>
                  <a:off x="4510080" y="3733560"/>
                  <a:ext cx="4481640" cy="1828800"/>
                  <a:chOff x="4510080" y="3733560"/>
                  <a:chExt cx="4481640" cy="1828800"/>
                </a:xfrm>
              </p:grpSpPr>
              <p:sp>
                <p:nvSpPr>
                  <p:cNvPr id="861" name="Line 25"/>
                  <p:cNvSpPr/>
                  <p:nvPr/>
                </p:nvSpPr>
                <p:spPr>
                  <a:xfrm>
                    <a:off x="4510080" y="3733560"/>
                    <a:ext cx="448164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Line 26"/>
                  <p:cNvSpPr/>
                  <p:nvPr/>
                </p:nvSpPr>
                <p:spPr>
                  <a:xfrm>
                    <a:off x="6751800" y="3733560"/>
                    <a:ext cx="0" cy="182880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63" name="Group 50"/>
            <p:cNvGrpSpPr/>
            <p:nvPr/>
          </p:nvGrpSpPr>
          <p:grpSpPr>
            <a:xfrm>
              <a:off x="-76320" y="3247560"/>
              <a:ext cx="4426200" cy="2314800"/>
              <a:chOff x="-76320" y="3247560"/>
              <a:chExt cx="4426200" cy="2314800"/>
            </a:xfrm>
          </p:grpSpPr>
          <p:sp>
            <p:nvSpPr>
              <p:cNvPr id="864" name="Text Box 11"/>
              <p:cNvSpPr/>
              <p:nvPr/>
            </p:nvSpPr>
            <p:spPr>
              <a:xfrm>
                <a:off x="-76320" y="3987720"/>
                <a:ext cx="4197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54200"/>
                    <a:tab algn="l" pos="2174760"/>
                    <a:tab algn="dec" pos="366552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3/15 Decl.      10,000.0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54200"/>
                    <a:tab algn="l" pos="2174760"/>
                    <a:tab algn="dec" pos="366552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6/15 Decl.      10,000.0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54200"/>
                    <a:tab algn="l" pos="2174760"/>
                    <a:tab algn="dec" pos="366552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9/15 Decl.      10,000.0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5" name="Group 43"/>
              <p:cNvGrpSpPr/>
              <p:nvPr/>
            </p:nvGrpSpPr>
            <p:grpSpPr>
              <a:xfrm>
                <a:off x="198360" y="3247560"/>
                <a:ext cx="4151520" cy="2314800"/>
                <a:chOff x="198360" y="3247560"/>
                <a:chExt cx="4151520" cy="2314800"/>
              </a:xfrm>
            </p:grpSpPr>
            <p:sp>
              <p:nvSpPr>
                <p:cNvPr id="866" name="Text Box 30"/>
                <p:cNvSpPr/>
                <p:nvPr/>
              </p:nvSpPr>
              <p:spPr>
                <a:xfrm>
                  <a:off x="1511640" y="3247560"/>
                  <a:ext cx="118044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vidend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7" name="Group 42"/>
                <p:cNvGrpSpPr/>
                <p:nvPr/>
              </p:nvGrpSpPr>
              <p:grpSpPr>
                <a:xfrm>
                  <a:off x="198360" y="3733560"/>
                  <a:ext cx="4151520" cy="1828800"/>
                  <a:chOff x="198360" y="3733560"/>
                  <a:chExt cx="4151520" cy="1828800"/>
                </a:xfrm>
              </p:grpSpPr>
              <p:sp>
                <p:nvSpPr>
                  <p:cNvPr id="868" name="Line 32"/>
                  <p:cNvSpPr/>
                  <p:nvPr/>
                </p:nvSpPr>
                <p:spPr>
                  <a:xfrm>
                    <a:off x="198360" y="3733560"/>
                    <a:ext cx="4151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Line 33"/>
                  <p:cNvSpPr/>
                  <p:nvPr/>
                </p:nvSpPr>
                <p:spPr>
                  <a:xfrm>
                    <a:off x="2274840" y="3733560"/>
                    <a:ext cx="0" cy="182880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70" name="Rectangle 47"/>
          <p:cNvSpPr/>
          <p:nvPr/>
        </p:nvSpPr>
        <p:spPr>
          <a:xfrm>
            <a:off x="6844680" y="50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8"/>
          <p:cNvSpPr/>
          <p:nvPr/>
        </p:nvSpPr>
        <p:spPr>
          <a:xfrm>
            <a:off x="-6480" y="4572000"/>
            <a:ext cx="41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2174760"/>
                <a:tab algn="dec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/15 Decl.  10,000.0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9"/>
          <p:cNvSpPr/>
          <p:nvPr/>
        </p:nvSpPr>
        <p:spPr>
          <a:xfrm>
            <a:off x="4419720" y="47242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941480"/>
                <a:tab algn="l" pos="2336760"/>
                <a:tab algn="dec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/15 Decl.  10,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Box 29"/>
          <p:cNvSpPr/>
          <p:nvPr/>
        </p:nvSpPr>
        <p:spPr>
          <a:xfrm>
            <a:off x="1538280" y="5486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30"/>
          <p:cNvSpPr/>
          <p:nvPr/>
        </p:nvSpPr>
        <p:spPr>
          <a:xfrm>
            <a:off x="457200" y="6129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of Shar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arterly Dividend = T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3960" y="1980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CLARING A DIVIDEND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76" name="Picture 4" descr="D:\C21 PowerPoint\Multi_Journal\art for blue\Ch25\Ch25-01b.jpg"/>
          <p:cNvPicPr/>
          <p:nvPr/>
        </p:nvPicPr>
        <p:blipFill>
          <a:blip r:embed="rId1"/>
          <a:srcRect l="18193" t="0" r="0" b="86818"/>
          <a:stretch/>
        </p:blipFill>
        <p:spPr>
          <a:xfrm>
            <a:off x="384120" y="2209680"/>
            <a:ext cx="8229600" cy="183060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7"/>
          <p:cNvSpPr/>
          <p:nvPr/>
        </p:nvSpPr>
        <p:spPr>
          <a:xfrm>
            <a:off x="51120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8"/>
          <p:cNvSpPr/>
          <p:nvPr/>
        </p:nvSpPr>
        <p:spPr>
          <a:xfrm>
            <a:off x="511200" y="47847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Dividends Pay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Group 12"/>
          <p:cNvGrpSpPr/>
          <p:nvPr/>
        </p:nvGrpSpPr>
        <p:grpSpPr>
          <a:xfrm>
            <a:off x="5864400" y="1981080"/>
            <a:ext cx="533160" cy="1295280"/>
            <a:chOff x="5864400" y="1981080"/>
            <a:chExt cx="533160" cy="1295280"/>
          </a:xfrm>
        </p:grpSpPr>
        <p:sp>
          <p:nvSpPr>
            <p:cNvPr id="880" name="Line 10"/>
            <p:cNvSpPr/>
            <p:nvPr/>
          </p:nvSpPr>
          <p:spPr>
            <a:xfrm>
              <a:off x="6145200" y="2209680"/>
              <a:ext cx="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5"/>
            <p:cNvSpPr/>
            <p:nvPr/>
          </p:nvSpPr>
          <p:spPr>
            <a:xfrm>
              <a:off x="5864400" y="19810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13"/>
          <p:cNvGrpSpPr/>
          <p:nvPr/>
        </p:nvGrpSpPr>
        <p:grpSpPr>
          <a:xfrm>
            <a:off x="7921800" y="2209680"/>
            <a:ext cx="533160" cy="1371600"/>
            <a:chOff x="7921800" y="2209680"/>
            <a:chExt cx="533160" cy="1371600"/>
          </a:xfrm>
        </p:grpSpPr>
        <p:sp>
          <p:nvSpPr>
            <p:cNvPr id="883" name="Line 11"/>
            <p:cNvSpPr/>
            <p:nvPr/>
          </p:nvSpPr>
          <p:spPr>
            <a:xfrm>
              <a:off x="8184960" y="2514600"/>
              <a:ext cx="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6"/>
            <p:cNvSpPr/>
            <p:nvPr/>
          </p:nvSpPr>
          <p:spPr>
            <a:xfrm>
              <a:off x="7921800" y="22096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Text Box 14"/>
          <p:cNvSpPr/>
          <p:nvPr/>
        </p:nvSpPr>
        <p:spPr>
          <a:xfrm>
            <a:off x="7341120" y="72381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1, page 6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457200" y="685800"/>
            <a:ext cx="650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PAYING A DIVID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42"/>
          <p:cNvGrpSpPr/>
          <p:nvPr/>
        </p:nvGrpSpPr>
        <p:grpSpPr>
          <a:xfrm>
            <a:off x="198360" y="3247560"/>
            <a:ext cx="8793360" cy="2315160"/>
            <a:chOff x="198360" y="3247560"/>
            <a:chExt cx="8793360" cy="2315160"/>
          </a:xfrm>
        </p:grpSpPr>
        <p:grpSp>
          <p:nvGrpSpPr>
            <p:cNvPr id="888" name="Group 39"/>
            <p:cNvGrpSpPr/>
            <p:nvPr/>
          </p:nvGrpSpPr>
          <p:grpSpPr>
            <a:xfrm>
              <a:off x="304920" y="3247560"/>
              <a:ext cx="8686800" cy="2315160"/>
              <a:chOff x="304920" y="3247560"/>
              <a:chExt cx="8686800" cy="2315160"/>
            </a:xfrm>
          </p:grpSpPr>
          <p:sp>
            <p:nvSpPr>
              <p:cNvPr id="889" name="Text Box 14"/>
              <p:cNvSpPr/>
              <p:nvPr/>
            </p:nvSpPr>
            <p:spPr>
              <a:xfrm>
                <a:off x="304920" y="4038480"/>
                <a:ext cx="51814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282760"/>
                    <a:tab algn="dec" pos="41148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4/15 Paid         10,000.00 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 3/15 Decl.          10,00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282760"/>
                    <a:tab algn="dec" pos="41148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7/15 Paid         10,000.00 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 6/15 Decl.          10,00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282760"/>
                    <a:tab algn="dec" pos="41148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10/15 Paid       10,000.00 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 9/15 Decl.          10,00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282760"/>
                    <a:tab algn="dec" pos="41148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12/15 Decl.         10,00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0" name="Group 38"/>
              <p:cNvGrpSpPr/>
              <p:nvPr/>
            </p:nvGrpSpPr>
            <p:grpSpPr>
              <a:xfrm>
                <a:off x="5029200" y="3247560"/>
                <a:ext cx="3962520" cy="2315160"/>
                <a:chOff x="5029200" y="3247560"/>
                <a:chExt cx="3962520" cy="2315160"/>
              </a:xfrm>
            </p:grpSpPr>
            <p:sp>
              <p:nvSpPr>
                <p:cNvPr id="891" name="Text Box 16"/>
                <p:cNvSpPr/>
                <p:nvPr/>
              </p:nvSpPr>
              <p:spPr>
                <a:xfrm>
                  <a:off x="6625440" y="3247560"/>
                  <a:ext cx="71244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as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2" name="Group 36"/>
                <p:cNvGrpSpPr/>
                <p:nvPr/>
              </p:nvGrpSpPr>
              <p:grpSpPr>
                <a:xfrm>
                  <a:off x="5029200" y="3733920"/>
                  <a:ext cx="3962520" cy="1828800"/>
                  <a:chOff x="5029200" y="3733920"/>
                  <a:chExt cx="3962520" cy="1828800"/>
                </a:xfrm>
              </p:grpSpPr>
              <p:sp>
                <p:nvSpPr>
                  <p:cNvPr id="893" name="Line 18"/>
                  <p:cNvSpPr/>
                  <p:nvPr/>
                </p:nvSpPr>
                <p:spPr>
                  <a:xfrm>
                    <a:off x="5029200" y="3733920"/>
                    <a:ext cx="3962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Line 19"/>
                  <p:cNvSpPr/>
                  <p:nvPr/>
                </p:nvSpPr>
                <p:spPr>
                  <a:xfrm>
                    <a:off x="7011000" y="3733920"/>
                    <a:ext cx="0" cy="182880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5" name="Group 41"/>
            <p:cNvGrpSpPr/>
            <p:nvPr/>
          </p:nvGrpSpPr>
          <p:grpSpPr>
            <a:xfrm>
              <a:off x="198360" y="3247560"/>
              <a:ext cx="4602240" cy="2315160"/>
              <a:chOff x="198360" y="3247560"/>
              <a:chExt cx="4602240" cy="2315160"/>
            </a:xfrm>
          </p:grpSpPr>
          <p:sp>
            <p:nvSpPr>
              <p:cNvPr id="896" name="Text Box 23"/>
              <p:cNvSpPr/>
              <p:nvPr/>
            </p:nvSpPr>
            <p:spPr>
              <a:xfrm>
                <a:off x="1444320" y="3247560"/>
                <a:ext cx="2067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vidends Pay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7" name="Group 40"/>
              <p:cNvGrpSpPr/>
              <p:nvPr/>
            </p:nvGrpSpPr>
            <p:grpSpPr>
              <a:xfrm>
                <a:off x="198360" y="3733920"/>
                <a:ext cx="4602240" cy="1828800"/>
                <a:chOff x="198360" y="3733920"/>
                <a:chExt cx="4602240" cy="1828800"/>
              </a:xfrm>
            </p:grpSpPr>
            <p:sp>
              <p:nvSpPr>
                <p:cNvPr id="898" name="Line 25"/>
                <p:cNvSpPr/>
                <p:nvPr/>
              </p:nvSpPr>
              <p:spPr>
                <a:xfrm>
                  <a:off x="198360" y="3733920"/>
                  <a:ext cx="460224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Line 26"/>
                <p:cNvSpPr/>
                <p:nvPr/>
              </p:nvSpPr>
              <p:spPr>
                <a:xfrm>
                  <a:off x="2500200" y="373392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508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PAYING A DIVIDEND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57200" y="9144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15. Paid cash for quarterly dividend declared December 15, $10,000.00. Check No. 87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457200" y="1911240"/>
            <a:ext cx="2819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nd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6553080" y="1905120"/>
            <a:ext cx="1295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4876920" y="191124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2971800" y="191124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5195880" y="3701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9"/>
          <p:cNvSpPr/>
          <p:nvPr/>
        </p:nvSpPr>
        <p:spPr>
          <a:xfrm>
            <a:off x="152280" y="3701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0"/>
          <p:cNvSpPr/>
          <p:nvPr/>
        </p:nvSpPr>
        <p:spPr>
          <a:xfrm flipV="1">
            <a:off x="1662840" y="5073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1, page 6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7"/>
          <p:cNvSpPr/>
          <p:nvPr/>
        </p:nvSpPr>
        <p:spPr>
          <a:xfrm flipV="1">
            <a:off x="7149240" y="5073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28"/>
          <p:cNvSpPr/>
          <p:nvPr/>
        </p:nvSpPr>
        <p:spPr>
          <a:xfrm>
            <a:off x="4946760" y="3929040"/>
            <a:ext cx="41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2174760"/>
                <a:tab algn="dec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5 Paid        10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29"/>
          <p:cNvSpPr/>
          <p:nvPr/>
        </p:nvSpPr>
        <p:spPr>
          <a:xfrm>
            <a:off x="380880" y="4724280"/>
            <a:ext cx="4343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833480"/>
                <a:tab algn="l" pos="2336760"/>
                <a:tab algn="dec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/15 Paid        10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2120" y="1980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PAYING A DIVIDEND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914" name="Picture 4" descr="D:\C21 PowerPoint\Multi_Journal\art for blue\Ch25\Ch25-01c.jpg"/>
          <p:cNvPicPr/>
          <p:nvPr/>
        </p:nvPicPr>
        <p:blipFill>
          <a:blip r:embed="rId1"/>
          <a:srcRect l="0" t="0" r="0" b="87157"/>
          <a:stretch/>
        </p:blipFill>
        <p:spPr>
          <a:xfrm>
            <a:off x="457200" y="2209680"/>
            <a:ext cx="8305920" cy="1278000"/>
          </a:xfrm>
          <a:prstGeom prst="rect">
            <a:avLst/>
          </a:prstGeom>
          <a:ln w="0">
            <a:noFill/>
          </a:ln>
        </p:spPr>
      </p:pic>
      <p:sp>
        <p:nvSpPr>
          <p:cNvPr id="915" name="Oval 5"/>
          <p:cNvSpPr/>
          <p:nvPr/>
        </p:nvSpPr>
        <p:spPr>
          <a:xfrm>
            <a:off x="4378320" y="32767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"/>
          <p:cNvSpPr/>
          <p:nvPr/>
        </p:nvSpPr>
        <p:spPr>
          <a:xfrm>
            <a:off x="7883640" y="32767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7"/>
          <p:cNvSpPr/>
          <p:nvPr/>
        </p:nvSpPr>
        <p:spPr>
          <a:xfrm>
            <a:off x="644400" y="367344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Dividends Pay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8"/>
          <p:cNvSpPr/>
          <p:nvPr/>
        </p:nvSpPr>
        <p:spPr>
          <a:xfrm>
            <a:off x="644400" y="403848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9"/>
          <p:cNvSpPr/>
          <p:nvPr/>
        </p:nvSpPr>
        <p:spPr>
          <a:xfrm>
            <a:off x="7379280" y="72381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1, page 6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Box 8"/>
          <p:cNvSpPr/>
          <p:nvPr/>
        </p:nvSpPr>
        <p:spPr>
          <a:xfrm>
            <a:off x="685800" y="762120"/>
            <a:ext cx="7093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Journalizing Dividends Pay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9:05:32Z</dcterms:created>
  <dc:creator>Mary Colleen McLaughlin</dc:creator>
  <dc:description/>
  <dc:language>en-US</dc:language>
  <cp:lastModifiedBy>David Combs</cp:lastModifiedBy>
  <cp:lastPrinted>1999-04-10T04:56:01Z</cp:lastPrinted>
  <dcterms:modified xsi:type="dcterms:W3CDTF">2011-12-13T13:33:48Z</dcterms:modified>
  <cp:revision>82</cp:revision>
  <dc:subject/>
  <dc:title>ADJUSTING ENTRY FOR SUPPLIES</dc:title>
</cp:coreProperties>
</file>